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991-07CA-4C8A-8B64-25CABFCF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3BE-2014-4936-8322-33BF11C6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19CB-81E4-4D12-8CCB-83468337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7F9-81AB-45C4-960B-06CFCC95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954-0905-4D8E-9C52-73542A52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ECA3-7DEC-47B3-9869-FEFD651F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72E-25A0-46A0-8394-6159B6A1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149-24D9-44FC-A3B8-E7DE8EF5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A18-6F2C-4C98-B67E-F5BE205D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5CD-6D5A-4381-91F6-4FA7ECEA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72A-360F-464E-9F00-B4B7E378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B26-4EE8-406A-BBF8-91FA9628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AB1-0137-4CCC-8AD2-B36DCBA2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3A5-A064-4335-89D6-D9BCD305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F35-AD82-4E0E-9236-AD2AEE1A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08B-20B6-42C8-9CB9-196BE48E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D9B0-0E1C-4D76-B1B9-3BDF97EC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A71E-4959-4875-A753-5679FAD5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E8B-7B8E-4430-A41A-2B3A65E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7392-38EF-4AF0-97B1-1FD8E3C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C05-CE19-46E9-B736-DD69F57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E5DE-E735-4309-BFFD-20282C74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31D-0180-4FB9-ADDD-95E7648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FA5-DCEA-404C-B0AA-BF95576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13BA-E9A8-4D5C-B9E6-6AF5F6B6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5C4-3579-4913-B1BA-3F9511B6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2F7-EA5F-4FEE-9B67-2EC3011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452C-679C-4B5A-909C-CA957E90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B11-0F84-4330-A4B5-5B83E66E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F74-E7ED-4834-ACDF-99F8D47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86C-D76C-4DF7-8E84-14D38EB6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8FD-FBB3-4199-B37F-40AB7EC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B28-06C2-4763-9250-CE1A56C5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F38-DC98-4106-8E21-F48D064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3D0-0685-4FA9-A735-C0B1BDC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E92-3BDD-46A3-8CA9-1483774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342-85BD-43A5-8F24-26F9604D1E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9CEE-85AB-41E2-B2E3-1FF9127CC90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eedmagazine.com/news/2006/07/andrea_barrett_niles_eldredge.php?page=all&amp;p=y" TargetMode="External"/><Relationship Id="rId4" Type="http://schemas.openxmlformats.org/officeDocument/2006/relationships/hyperlink" Target="http://www.saburchill.com/IBbiology/bio_hp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071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cc3300"/>
                </a:solidFill>
                <a:latin typeface="Garamond"/>
              </a:rPr>
              <a:t>PUNCTUATED EQUILIBRIUM</a:t>
            </a:r>
            <a:br>
              <a:rPr sz="5800"/>
            </a:br>
            <a:br>
              <a:rPr sz="5800"/>
            </a:br>
            <a:r>
              <a:rPr b="1" lang="en-GB" sz="1800" spc="-1" strike="noStrike">
                <a:solidFill>
                  <a:srgbClr val="cc3300"/>
                </a:solidFill>
                <a:latin typeface="Garamond"/>
              </a:rPr>
              <a:t>http://www.saburchill.com/IBbiology/chapters05/017.html</a:t>
            </a:r>
            <a:endParaRPr b="0" lang="en-US" sz="18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Mechanism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apid natural selec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isolated popul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netic drif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small isolated popula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peful mon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reakdown of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velopmental homeostasi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Criticism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is a spec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w rapid is rap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incomplete fossil re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NEO-DARWINISM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olutionary change is both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low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ulting from the accumulation of many small genetic changes favoured by natura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effects occasionally making small contribu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Evolution of new speci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possible ways from gradual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HYLETIC TRANS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Garamond"/>
              </a:rPr>
              <a:t>PHYLETIC TRANSFORM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 accumula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small genetic variations preserved by natura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whole population imperceptibly to evolve in to a new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ossible to draw a clear line between the end of the first species and the beginning of its descendant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e would be a long period of intermediate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ALLOPATRIC SPECIATION</a:t>
            </a:r>
            <a:r>
              <a:rPr b="0" lang="fr-FR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ographical or reproductiv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sola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a part of the population would allow it to evolve in a different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sibly more rapidly than the main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the isolated population is small, it might be very difficult to find fossils of the intermediate stag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 rot="1355400">
            <a:off x="3220920" y="744480"/>
            <a:ext cx="61920" cy="4635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80"/>
              </a:gs>
            </a:gsLst>
            <a:lin ang="40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 rot="1369800">
            <a:off x="5987520" y="747360"/>
            <a:ext cx="70200" cy="14619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0000"/>
              </a:gs>
            </a:gsLst>
            <a:lin ang="40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 rot="2839800">
            <a:off x="4113000" y="-568080"/>
            <a:ext cx="103320" cy="8329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80"/>
              </a:gs>
            </a:gsLst>
            <a:lin ang="25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93600" y="5527800"/>
            <a:ext cx="1519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80"/>
                </a:solidFill>
                <a:latin typeface="Arial"/>
              </a:rPr>
              <a:t>Species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32040" y="595440"/>
            <a:ext cx="15195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Species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595760" y="242892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pecies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51400" y="57960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80"/>
                </a:solidFill>
                <a:latin typeface="Arial"/>
              </a:rPr>
              <a:t>Species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931080" y="57960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pecies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30"/>
          <p:cNvGrpSpPr/>
          <p:nvPr/>
        </p:nvGrpSpPr>
        <p:grpSpPr>
          <a:xfrm>
            <a:off x="663480" y="449280"/>
            <a:ext cx="2735280" cy="4738320"/>
            <a:chOff x="663480" y="449280"/>
            <a:chExt cx="2735280" cy="4738320"/>
          </a:xfrm>
        </p:grpSpPr>
        <p:sp>
          <p:nvSpPr>
            <p:cNvPr id="119" name="Line 14"/>
            <p:cNvSpPr/>
            <p:nvPr/>
          </p:nvSpPr>
          <p:spPr>
            <a:xfrm>
              <a:off x="1765440" y="2325960"/>
              <a:ext cx="564840" cy="28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663480" y="449280"/>
              <a:ext cx="2735280" cy="1907640"/>
            </a:xfrm>
            <a:prstGeom prst="rect">
              <a:avLst/>
            </a:prstGeom>
            <a:solidFill>
              <a:srgbClr val="cc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llopatric speci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f Species W into species X due to the isolation of a small population of Species 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" name="Group 29"/>
          <p:cNvGrpSpPr/>
          <p:nvPr/>
        </p:nvGrpSpPr>
        <p:grpSpPr>
          <a:xfrm>
            <a:off x="5838840" y="1792440"/>
            <a:ext cx="3146400" cy="2244600"/>
            <a:chOff x="5838840" y="1792440"/>
            <a:chExt cx="3146400" cy="2244600"/>
          </a:xfrm>
        </p:grpSpPr>
        <p:sp>
          <p:nvSpPr>
            <p:cNvPr id="122" name="Line 17"/>
            <p:cNvSpPr/>
            <p:nvPr/>
          </p:nvSpPr>
          <p:spPr>
            <a:xfrm flipH="1">
              <a:off x="5838840" y="2057400"/>
              <a:ext cx="1736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6300720" y="1792440"/>
              <a:ext cx="2684520" cy="2244600"/>
            </a:xfrm>
            <a:prstGeom prst="rect">
              <a:avLst/>
            </a:prstGeom>
            <a:solidFill>
              <a:srgbClr val="cc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llopatric speci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f species Y into species Z due to the isolation of a small population of species 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Line 20"/>
          <p:cNvSpPr/>
          <p:nvPr/>
        </p:nvSpPr>
        <p:spPr>
          <a:xfrm flipV="1">
            <a:off x="2433600" y="2941560"/>
            <a:ext cx="2873520" cy="2519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4821120" y="4362480"/>
            <a:ext cx="4121280" cy="1279440"/>
          </a:xfrm>
          <a:prstGeom prst="borderCallout1">
            <a:avLst>
              <a:gd name="adj1" fmla="val 18750"/>
              <a:gd name="adj2" fmla="val -8333"/>
              <a:gd name="adj3" fmla="val -15509"/>
              <a:gd name="adj4" fmla="val -21263"/>
            </a:avLst>
          </a:prstGeom>
          <a:solidFill>
            <a:srgbClr val="00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letic trans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species W into Species Y due to the slow gradual accumulation of mutations in Species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31"/>
          <p:cNvGrpSpPr/>
          <p:nvPr/>
        </p:nvGrpSpPr>
        <p:grpSpPr>
          <a:xfrm>
            <a:off x="241200" y="507960"/>
            <a:ext cx="8451720" cy="6337440"/>
            <a:chOff x="241200" y="507960"/>
            <a:chExt cx="8451720" cy="6337440"/>
          </a:xfrm>
        </p:grpSpPr>
        <p:grpSp>
          <p:nvGrpSpPr>
            <p:cNvPr id="127" name="Group 22"/>
            <p:cNvGrpSpPr/>
            <p:nvPr/>
          </p:nvGrpSpPr>
          <p:grpSpPr>
            <a:xfrm>
              <a:off x="663480" y="507960"/>
              <a:ext cx="8029440" cy="5905440"/>
              <a:chOff x="663480" y="507960"/>
              <a:chExt cx="8029440" cy="5905440"/>
            </a:xfrm>
          </p:grpSpPr>
          <p:sp>
            <p:nvSpPr>
              <p:cNvPr id="128" name="Line 23"/>
              <p:cNvSpPr/>
              <p:nvPr/>
            </p:nvSpPr>
            <p:spPr>
              <a:xfrm flipV="1">
                <a:off x="663480" y="507960"/>
                <a:ext cx="8640" cy="590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663480" y="6405120"/>
                <a:ext cx="80294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" name="Line 25"/>
            <p:cNvSpPr/>
            <p:nvPr/>
          </p:nvSpPr>
          <p:spPr>
            <a:xfrm flipV="1">
              <a:off x="384120" y="2523960"/>
              <a:ext cx="0" cy="2952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V="1">
              <a:off x="2172960" y="6671880"/>
              <a:ext cx="4999320" cy="27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647880" y="6489720"/>
              <a:ext cx="16495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241200" y="3460680"/>
              <a:ext cx="38736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4" name="Text Box 3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226485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226117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0" presetSubtype="226246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0" presetSubtype="226100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0" presetSubtype="226229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Garamond"/>
              </a:rPr>
              <a:t>THE PUNCTUATED EQUILIBRIUM MODEL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observed that the fossil record gives a different picture for the ev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claim that there were long periods of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si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4-10 million years) involving little evolutionary chan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n occasional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apid formation of new spec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little as 5,000 - 50,000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5444280" y="1566720"/>
            <a:ext cx="3079080" cy="2187720"/>
            <a:chOff x="5444280" y="1566720"/>
            <a:chExt cx="3079080" cy="2187720"/>
          </a:xfrm>
        </p:grpSpPr>
        <p:pic>
          <p:nvPicPr>
            <p:cNvPr id="138" name="Picture 6" descr="sj-gould-200[1]"/>
            <p:cNvPicPr/>
            <p:nvPr/>
          </p:nvPicPr>
          <p:blipFill>
            <a:blip r:embed="rId1"/>
            <a:stretch/>
          </p:blipFill>
          <p:spPr>
            <a:xfrm>
              <a:off x="6902280" y="1566720"/>
              <a:ext cx="16210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/>
            <p:cNvSpPr/>
            <p:nvPr/>
          </p:nvSpPr>
          <p:spPr>
            <a:xfrm>
              <a:off x="5444280" y="1620720"/>
              <a:ext cx="125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Stephen J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Goul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5205240" y="3989520"/>
            <a:ext cx="3631680" cy="2135160"/>
            <a:chOff x="5205240" y="3989520"/>
            <a:chExt cx="3631680" cy="2135160"/>
          </a:xfrm>
        </p:grpSpPr>
        <p:pic>
          <p:nvPicPr>
            <p:cNvPr id="141" name="Picture 7" descr="n eldredch"/>
            <p:cNvPicPr/>
            <p:nvPr/>
          </p:nvPicPr>
          <p:blipFill>
            <a:blip r:embed="rId2"/>
            <a:stretch/>
          </p:blipFill>
          <p:spPr>
            <a:xfrm>
              <a:off x="5205240" y="3989520"/>
              <a:ext cx="171468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7104600" y="5719680"/>
              <a:ext cx="17323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cc9900"/>
                  </a:solidFill>
                  <a:uFillTx/>
                  <a:latin typeface="Verdana"/>
                  <a:hlinkClick r:id="rId3"/>
                </a:rPr>
                <a:t>Niles Eldredg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Stasis and chang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pecies resists evolutionary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pecies would rather move to a new area where it can find its habitat than adapt to a new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a small population of a species should get isolated in an area where its habitat does not exist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apid change could take place to bring the population back to equilibrium (sta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t it is no longer the same speci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309600" y="419040"/>
            <a:ext cx="8523360" cy="6443280"/>
            <a:chOff x="309600" y="419040"/>
            <a:chExt cx="8523360" cy="6443280"/>
          </a:xfrm>
        </p:grpSpPr>
        <p:grpSp>
          <p:nvGrpSpPr>
            <p:cNvPr id="148" name="Group 5"/>
            <p:cNvGrpSpPr/>
            <p:nvPr/>
          </p:nvGrpSpPr>
          <p:grpSpPr>
            <a:xfrm>
              <a:off x="309600" y="746640"/>
              <a:ext cx="8523360" cy="6115680"/>
              <a:chOff x="309600" y="746640"/>
              <a:chExt cx="8523360" cy="6115680"/>
            </a:xfrm>
          </p:grpSpPr>
          <p:sp>
            <p:nvSpPr>
              <p:cNvPr id="149" name="Line 6"/>
              <p:cNvSpPr/>
              <p:nvPr/>
            </p:nvSpPr>
            <p:spPr>
              <a:xfrm flipV="1">
                <a:off x="592920" y="2230560"/>
                <a:ext cx="8280" cy="245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 flipV="1">
                <a:off x="2902320" y="6621120"/>
                <a:ext cx="3808800" cy="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1" name="Group 8"/>
              <p:cNvGrpSpPr/>
              <p:nvPr/>
            </p:nvGrpSpPr>
            <p:grpSpPr>
              <a:xfrm>
                <a:off x="951120" y="746640"/>
                <a:ext cx="7881840" cy="5556240"/>
                <a:chOff x="951120" y="746640"/>
                <a:chExt cx="7881840" cy="5556240"/>
              </a:xfrm>
            </p:grpSpPr>
            <p:sp>
              <p:nvSpPr>
                <p:cNvPr id="152" name="Line 9"/>
                <p:cNvSpPr/>
                <p:nvPr/>
              </p:nvSpPr>
              <p:spPr>
                <a:xfrm flipV="1">
                  <a:off x="951120" y="746640"/>
                  <a:ext cx="8280" cy="55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0"/>
                <p:cNvSpPr/>
                <p:nvPr/>
              </p:nvSpPr>
              <p:spPr>
                <a:xfrm>
                  <a:off x="951120" y="6294240"/>
                  <a:ext cx="7881840" cy="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11"/>
              <p:cNvSpPr/>
              <p:nvPr/>
            </p:nvSpPr>
            <p:spPr>
              <a:xfrm>
                <a:off x="4180320" y="6427080"/>
                <a:ext cx="1354680" cy="43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Evolutio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12"/>
              <p:cNvSpPr/>
              <p:nvPr/>
            </p:nvSpPr>
            <p:spPr>
              <a:xfrm>
                <a:off x="309600" y="3031200"/>
                <a:ext cx="519480" cy="83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13"/>
            <p:cNvGrpSpPr/>
            <p:nvPr/>
          </p:nvGrpSpPr>
          <p:grpSpPr>
            <a:xfrm>
              <a:off x="1632600" y="768600"/>
              <a:ext cx="6359040" cy="5136480"/>
              <a:chOff x="1632600" y="768600"/>
              <a:chExt cx="6359040" cy="5136480"/>
            </a:xfrm>
          </p:grpSpPr>
          <p:sp>
            <p:nvSpPr>
              <p:cNvPr id="157" name="Text Box 14"/>
              <p:cNvSpPr/>
              <p:nvPr/>
            </p:nvSpPr>
            <p:spPr>
              <a:xfrm>
                <a:off x="4038120" y="330948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15"/>
              <p:cNvSpPr/>
              <p:nvPr/>
            </p:nvSpPr>
            <p:spPr>
              <a:xfrm>
                <a:off x="6219360" y="236160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16"/>
              <p:cNvSpPr/>
              <p:nvPr/>
            </p:nvSpPr>
            <p:spPr>
              <a:xfrm>
                <a:off x="1941840" y="449856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Text Box 17"/>
              <p:cNvSpPr/>
              <p:nvPr/>
            </p:nvSpPr>
            <p:spPr>
              <a:xfrm>
                <a:off x="1632600" y="4685040"/>
                <a:ext cx="45144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18"/>
              <p:cNvSpPr/>
              <p:nvPr/>
            </p:nvSpPr>
            <p:spPr>
              <a:xfrm>
                <a:off x="3012840" y="3558240"/>
                <a:ext cx="45144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Text Box 19"/>
              <p:cNvSpPr/>
              <p:nvPr/>
            </p:nvSpPr>
            <p:spPr>
              <a:xfrm>
                <a:off x="5892840" y="2353680"/>
                <a:ext cx="45144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3" name="Group 20"/>
              <p:cNvGrpSpPr/>
              <p:nvPr/>
            </p:nvGrpSpPr>
            <p:grpSpPr>
              <a:xfrm>
                <a:off x="1997640" y="768600"/>
                <a:ext cx="5454000" cy="5136480"/>
                <a:chOff x="1997640" y="768600"/>
                <a:chExt cx="5454000" cy="5136480"/>
              </a:xfrm>
            </p:grpSpPr>
            <p:sp>
              <p:nvSpPr>
                <p:cNvPr id="164" name="Rectangle 21"/>
                <p:cNvSpPr/>
                <p:nvPr/>
              </p:nvSpPr>
              <p:spPr>
                <a:xfrm flipH="1" rot="5400000">
                  <a:off x="4826880" y="1852200"/>
                  <a:ext cx="86040" cy="2931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00800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Rectangle 22"/>
                <p:cNvSpPr/>
                <p:nvPr/>
              </p:nvSpPr>
              <p:spPr>
                <a:xfrm flipH="1" rot="5400000">
                  <a:off x="6836400" y="1793160"/>
                  <a:ext cx="70560" cy="115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" name="Rectangle 23"/>
                <p:cNvSpPr/>
                <p:nvPr/>
              </p:nvSpPr>
              <p:spPr>
                <a:xfrm flipH="1">
                  <a:off x="1997280" y="2004120"/>
                  <a:ext cx="60120" cy="390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Rectangle 24"/>
                <p:cNvSpPr/>
                <p:nvPr/>
              </p:nvSpPr>
              <p:spPr>
                <a:xfrm flipH="1">
                  <a:off x="3403080" y="776160"/>
                  <a:ext cx="60120" cy="376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Rectangle 25"/>
                <p:cNvSpPr/>
                <p:nvPr/>
              </p:nvSpPr>
              <p:spPr>
                <a:xfrm flipH="1">
                  <a:off x="6274440" y="776160"/>
                  <a:ext cx="60120" cy="2572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" name="Rectangle 26"/>
                <p:cNvSpPr/>
                <p:nvPr/>
              </p:nvSpPr>
              <p:spPr>
                <a:xfrm flipH="1" rot="5400000">
                  <a:off x="2698920" y="3788640"/>
                  <a:ext cx="55080" cy="14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3333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Rectangle 27"/>
                <p:cNvSpPr/>
                <p:nvPr/>
              </p:nvSpPr>
              <p:spPr>
                <a:xfrm flipH="1">
                  <a:off x="7390800" y="768600"/>
                  <a:ext cx="60120" cy="1623960"/>
                </a:xfrm>
                <a:prstGeom prst="rect">
                  <a:avLst/>
                </a:prstGeom>
                <a:solidFill>
                  <a:srgbClr val="800080"/>
                </a:solidFill>
                <a:ln w="936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1" name="Text Box 28"/>
            <p:cNvSpPr/>
            <p:nvPr/>
          </p:nvSpPr>
          <p:spPr>
            <a:xfrm>
              <a:off x="1411200" y="2229480"/>
              <a:ext cx="122688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Arial"/>
                </a:rPr>
                <a:t>Species W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29"/>
            <p:cNvSpPr/>
            <p:nvPr/>
          </p:nvSpPr>
          <p:spPr>
            <a:xfrm>
              <a:off x="2808720" y="1048320"/>
              <a:ext cx="122688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8000"/>
                  </a:solidFill>
                  <a:latin typeface="Arial"/>
                </a:rPr>
                <a:t>Species 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5544000" y="426600"/>
              <a:ext cx="122688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Species 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31"/>
            <p:cNvSpPr/>
            <p:nvPr/>
          </p:nvSpPr>
          <p:spPr>
            <a:xfrm>
              <a:off x="6949800" y="419040"/>
              <a:ext cx="122688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0080"/>
                  </a:solidFill>
                  <a:latin typeface="Arial"/>
                </a:rPr>
                <a:t>Species 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" name="Text Box 3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7:00:58Z</dcterms:created>
  <dc:creator>Billiet</dc:creator>
  <dc:description/>
  <dc:language>en-US</dc:language>
  <cp:lastModifiedBy>mcKillop</cp:lastModifiedBy>
  <dcterms:modified xsi:type="dcterms:W3CDTF">2012-04-21T23:19:36Z</dcterms:modified>
  <cp:revision>11</cp:revision>
  <dc:subject/>
  <dc:title>PUNCTUATED EQUILIBRIUM</dc:title>
</cp:coreProperties>
</file>